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3653-77C8-4D64-88AF-BBA1099F2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3A7E-FDE9-465D-9267-6B4E8D0BB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8421F3-55F2-4866-9FE3-525EB9597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C00478-A6F4-4CF2-8D89-12ADCF569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540B49-F04A-4B24-B868-428C84FD8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22667D-907C-405A-A489-893E1DC0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261F0F-CF26-4C11-B0EB-748F8E54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7FADA8-A5C7-4D61-8879-E0225DFA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9A9126-5768-4B18-889F-ED8D9ECD1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E651C7-8714-4B06-B1DB-60053A257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65C6E8-192D-40DC-BDD6-6785FD942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03EED9-4808-44C5-8DB6-5078A83CB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FDF4-CBB4-45B5-A5CD-F7B01238C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D03658-BB34-4D8D-98C6-6E41A921C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91C623-AF04-4D32-A7F7-BD7A744A8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EAD2C1-9594-4C6E-9740-BF1A5559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554754-BEB0-4EAC-B91D-DF3ABF99C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1F9624-CE00-4FF8-9F50-ED79795D6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4F85E7-F5D7-43FB-AC2B-E79E5500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65A3BA-8A3E-4576-B33B-40C97155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B75192-B341-496E-B3AE-B79DD523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EC9DE2-407C-4F52-9E33-314B7B916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D5232B-516B-4ABC-AAC7-3516400AC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2CC3-565C-4F2B-83AF-2D8E9A01A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ECE4DA-7AC6-4525-A1ED-C84B13737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513985-8ADB-41E9-AD1E-16E95B7AF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41B002-09F4-477D-9674-EFFA769F9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76DE9D-F332-4264-9E42-19B7BCF7B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617A20-FDC9-4FA8-BF90-659642E51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5D8F6B-6A0F-48CB-A4EF-115B45C8D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D3C71F-D6E8-4231-A2DF-523E77592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2ADD82-47A5-4A5A-A7A5-77149CB9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0A6E52-44A6-443B-A243-E3829BDB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118DEF-F9E3-43A1-88DB-1AC2FBEB6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40028-B051-4318-8E31-74A2C0B81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FDE0CB-9908-4BD0-BDC8-5C5F8D209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E4BCC7-4CBD-4CAA-89A7-BBE3E700E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434544-3575-47F0-8B22-9C2D3F12D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3588C1-E6E0-4D6C-A5C3-E6DEDB77D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ACE742-28D8-4807-ADC0-73DF6D9FA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DFA1B4-7FD1-4196-B00E-7580F026A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94751C-CF3F-46CC-AECA-AD43397D7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27A631-0FF8-46D9-8A86-0DA86FBE4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0911CA-4D65-432F-987C-A2C21BF6B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13937C-4B06-452B-9CB7-ADC66DE9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B5A48-4964-4777-9696-C245C2F81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9AD55C-97DF-47B6-8B03-D6879C10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C00612-8047-405D-96E1-4CCA1A0E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2195D8-9726-48D9-A4D8-86F3C1537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A45132-089B-486F-86B3-1F5EB33C4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2645AF-9CF3-4134-B3F1-EEA72AA1E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717C9F-8053-4209-8660-F6E67A7F6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A8EF1C-5737-4171-B99A-7865267D0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92BC62-405B-4C9D-ADEB-2AFBF80DC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C1F950-8204-4C26-A830-9E940A59B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94C62F-E5B2-448E-85EF-A3AAA9C6F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1A0C8-2AB8-4799-82BF-DD681DD75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C8729E-8DE5-4205-BB7D-44A4D8C13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F0AF4E-80C3-4CD8-91EE-E8049BF1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D63611-7FC0-442B-AECE-517ACB62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79D7A7-6470-4C3B-B7C5-1918B667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D2B1BE-4C37-41B9-BBAB-C887E9FD5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3979F5-E44A-4F95-A1FB-B7F6DCA05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7D8400-C77D-44DF-B1E6-F2582C18A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7E8B90-B008-4591-9115-68A1FA2BA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4BDE31-3683-4AC0-822C-3C3962661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996A41-8718-4A43-B30F-3A0C31FD4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C0ACA-A44E-44EB-8D45-A807772E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D47E76-8905-4C18-912D-A7F87D5E3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A7CF42-5597-4447-A67C-AFDE28E82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7FF571-CA9C-4353-8E17-92C7C0B49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97C1ED-F464-4488-A6E2-54E34FA6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87BB33-0FEE-476F-89BE-2C7AE7CD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E8A786-3807-462A-84F5-F42C6270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E860F8-FB83-47C5-9012-1169271DC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67A6A9-5A32-4A6B-916D-DE409DB94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2F7673-1643-48DE-B336-90C3ADCEC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0F0BEA-0920-44DD-8A76-8212EFB18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236FC-C65D-4285-A6BE-9870CED09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0FFD7B-231A-40B8-AE4B-C162FFE24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244D8E-D5BC-4EE6-A260-3387276D1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9029CE-55BC-40DF-810F-1615CADC2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0BF0B6-349E-4D57-BB34-0A8F5D867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F449A9-6F43-429C-8622-FB6C00CFB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F3328A-1E08-4C91-8867-6D4BCCA2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DD1D68-C32D-4728-9A03-F40EC0D8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7992F1-AEDA-46A2-9233-DB111371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778C8B-B30E-4F66-9254-4B384DA5B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6DBE40-590B-4A9E-8AF2-7522EACBC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DA980-78AD-4C67-A319-FD55A73D4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8AECDA-42BA-41C7-8884-BA8420C77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7F6E1C-122E-4277-A913-B1BEF275A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4E52CA-7D38-43E7-9DDC-53E930D1E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73E664-4168-4772-82A5-364293C1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1602F7-F967-4B6E-A35E-A701C65A9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48571E-D868-4F78-B160-6EBFD717D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2E1FDD-B5CA-48CF-9BB1-5742B2EF0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A59F64-D924-4E47-BE7E-6A91268C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197208-80BC-4765-882C-89A09091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3DD9D5-EB47-44AB-9ACD-36B66655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726AA-4A69-4F78-83FB-A210DDCE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7F4934-E9B5-4490-830B-3CBD0B431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CD95FB-0350-41B0-9296-5EA239F81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7C5070-7543-456C-B44E-CE063FBC4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89229A-FAAA-48FD-BDFF-F085D8282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8AD6B2-8595-4DD0-B4B3-EE27CA6CC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4F0BC6-64DC-4547-94AC-9B595A090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3FB685-0C42-4915-B227-99F3B1290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6A7723-E982-46FB-8FDC-7DB32C7E5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34EA68-A567-4D6C-85DC-339AAEB75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D104AD-58C3-4E2F-8886-06702881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FEA1-4CBA-4289-A3D3-3A91993F9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76417-25B0-432A-9135-F1A99C49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6DF21E-9A6F-4141-AD10-2DEC0F32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C8BBFC-23B8-4934-BCAF-5154AC3B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D1D583-3CDA-4804-86AF-0A8BD80AA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D56CBA-9342-47E8-9419-8F207BA22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3ABA0E-C30D-4A7D-8498-595C833EF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06FBB8-4FFA-4712-A067-344787023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7FB678-72B0-4E54-94AE-77598F904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A041BF-9891-4EF1-B75D-62E67F516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696619-26D1-423A-B30B-4BF5393ED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5294F4-1DC1-4E24-8A92-FF73BBCA7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13496-DD28-46DB-B5AA-F20F638F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749DBD-2481-4832-837A-97C76427A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73F408-9B88-4E1F-B3D6-492E1576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7CEB33-327A-49DF-975F-86F47144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0EFEC7-2CD5-453F-AC0B-BDC8535C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9A5954-BED0-407C-BCE3-7268DCE00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658679-BC67-4061-BA41-3597AB869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3C487E-7096-452E-9E7B-A9E3BEBB4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C53BBC-3B05-4462-8886-DC8C5128E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6FC94A-BC03-40C3-ACD8-4FE4CBFC7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62BB95-6705-4397-9FD9-312C6F925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E76A9-7B1C-4DEB-BF23-5CF6669EB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EA5BCA-A0AD-4AB8-A8DA-68C9B7A76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AE7230-16DC-42D4-85B2-124F12840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CEF6ED-4837-4BBD-8DAB-F995A66DD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C67C54-C8B5-4F74-BD19-F237F44F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4F9DFD-8738-43AB-980F-FA6CD107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5BE920-EC3A-4C09-A496-73EFCC69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2E7780-5841-48A1-853E-D1BF7EB20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F30E53-F710-47FD-B05B-3D9265E2E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28B789-517F-4323-8190-E0B8FC774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FFF06A-B5C5-46E2-B9AB-13E2A0BF8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17A55-E4D9-482D-8FCC-10311C3CD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69EE3B-78E7-4EC3-BA61-F9DAFB2E7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4C611D-CEAD-4CC2-814D-EE156D4F4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18BA01-72A0-40B8-9B36-15A06A896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34FCD5-795A-423F-98CD-2A10264E0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A7AA2C-C95C-439A-B7AA-EE67B8320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641D29-B748-4AD7-B1E0-24B68516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3BAEDB-8751-478B-82CC-502C0819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3D328A-E0E1-4538-AEAD-CC2DDF71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B90F8A-2D93-46F1-8323-4309BE17A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90A7CE-35D1-464B-B492-FEA34BA99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C98A7-F56C-4902-BF50-4E5B40548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C21F19-EC04-47ED-8B9D-8DA4AE8AC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1D3C2B-09B1-46E3-9D76-4A301423B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8A470F-15E7-457D-A13B-C77712FA8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B77A14-7F06-417D-9AAE-E81548D7F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760BF0-FFCD-4FAA-AF35-58F966B07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AD797D-73ED-49FA-94AF-C78C610BD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7A38BA-46F9-423C-A6CF-DFCF27B38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3DEA42-B2D9-4FF0-8543-8761A02C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ECED48-D55F-4A8F-BFDC-FA7A3B0F2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E13BAB-E67D-4DFC-B7AA-8DA157B0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C7BB0-6407-4FE2-8C50-EBA880061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A372A9-FAC1-4F24-B5B2-0D68C832E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9E74D7-EC8F-4CD3-B214-49A90637F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155637-356F-442F-9187-89701E96D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0FA3F-D392-46B6-9172-8C60EC34C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92C22-87F2-445F-B492-998150F0A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F978A-B7EA-4538-8849-6AAC37EEE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31F75-C8EF-4C94-BD95-C76CFC81A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1C8F-2B59-4BF8-B44F-E3DF77B3B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E9B4E-9C96-424F-BBAA-C8F044AD3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A1C1C-A92B-4A9E-9854-62C601F2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90246-0890-4ABD-AFC5-345BCE43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A63FE-C632-418A-ACB5-86677863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4B27B-F5F7-49D2-AFD6-DA67F7913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2D8C4-59C9-45DE-BE9C-00C257F80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A0AD5-CB3F-41FD-B0DE-070C486AB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31B76-2BF8-4FCB-9395-031A1ABBA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7E0B8-0F76-4564-B4E3-9662DA37A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6D5ED-F20D-446B-9351-493C978B4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902F-2D31-4865-BDA2-18960D355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D53A3-D2FD-4D2A-AD1B-0A34E0DCE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CAC40-87F6-4558-B7B4-B789D8B42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E17CA-B886-48E7-829E-85E508647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5B824-B76B-4EEB-8975-55F52066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ACE19-683C-4FB3-84D1-231EF02F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20E73-EA26-4D2F-9E55-94EC0F55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CF6FC-DBE4-47B6-95FE-A4C0D4D72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02B57-AE0C-4B6B-995D-60A85EAC2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3CAEC-1458-4289-AB7E-7F1BCED8C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462C8-BC08-4A39-81FB-60D1A7CE4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3F61-8F86-420B-8B45-0F16739B4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076FE-2171-4CA1-BF4C-9A9E0E457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B6117-101F-4B4D-88D9-185A53B27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9C14D-4046-48FA-92E4-9F4E876AD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CB73E-BF74-417F-A385-87733208D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86F13-8F77-4B43-B848-492426CEB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0F51D-6CF7-4018-98F0-4C47BAD6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979BE-6475-4779-A2E9-49F2CD80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941BD-0834-42D6-B567-C83DD7D3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D18B3-5488-4459-BF35-24A8CFBC7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01455-C79F-4290-A136-CB9311D0D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AEB7-06E3-41BD-AFF4-DFFE03FDB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DDBD4-081B-43EC-B339-3C5B03624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E0F44-F8D5-461D-A822-1E0CDC5A2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86BA1-FF61-4CBD-BCD0-2DBCF9C63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2C08AB-FCAE-47E2-8C56-14F1EF19D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41338-9D0E-4673-B30B-66378F74F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36268-64F2-4C1F-81E7-0046176B0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B1B27-FA7D-43F9-AA45-85A24537D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C4276-EBD5-488A-9D3B-435B7783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A39974-EF29-446C-A6DE-02C899D4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4D5E8-28EC-4889-A2C1-DAAD4142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88D6-DDEA-488D-A692-90D8B01B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8BBD0-EF09-4F5A-B0F7-5C3908C6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3EA29-1440-442B-84F2-4800CFFFC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5A9C2E-2876-44A4-B287-E37520ADF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DA1EE-1B30-4A63-9F42-24A8128F0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12523A-29FF-4C3D-95D7-AF6796EEE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7F0102-F186-4925-A6A1-668CEB116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5F54CE-9307-4E2A-8591-4F347647F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5730D5-0673-450D-B90D-6355B223A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63AB7-3EAA-4361-9C8B-87D80C460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9A4D6F-6E27-4524-86F4-A7F8FFC5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AF66-140B-4FAC-9E3A-574E84A0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7E949-2153-4011-A4A2-9E6F31EB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CD31A-AFC0-4D09-A013-00494604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5972C-8DDA-4EB3-A12D-3D6198B1C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33B19-F356-4F50-BAD3-6313496F0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5FCAAD-8863-4459-B3EF-564257774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F9C28F-C17B-4597-BBED-078181B52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A9C5D3-7A1B-40C0-ACE9-B3E94C323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D6A73B-12BC-4B11-9B2E-ADC3982E5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201B10-EBE7-460F-A90D-5835C2A09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E8883E-36F7-4DC4-9D0B-2B3CE4C3D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185E-0C62-48F6-8971-AFA386DE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BBE414-11B1-4634-81CD-62A816357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077CF1-D57B-4982-907A-EFF41BBC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F53034-A2CB-4D90-8AF9-1E756DA8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CFE11-20B9-42EC-B6C8-1A8DE639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4C59A0-CB43-4964-A59E-97FBA8704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9B123-9E32-4B8B-B576-13F31B6C5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9F2EC6-D52B-4B1D-B71F-0277F7BC7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E6E560-6332-4E39-82D8-845B1DC6D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B38852-E0F1-45A2-B3E0-B1502C013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19DA9A-AFBD-4B33-AC73-4B2754245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31D79-01E6-4DDF-9570-BB08F6D89A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F57C2-AB0E-46DE-B452-9438A3C60B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72E95-FFDB-48E4-901C-6151B9A79C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A5942-ADBF-4079-92D1-E4D533942F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0C85E-66BB-455D-945A-F6101C9EBE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EBF25-E808-434D-96B0-A7820082BA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D5EF5-B7C7-4D4B-84AE-E9E5DA6D82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DDE26-AB9E-4719-90EB-C7C17840A6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8C7EF-2880-415A-ABC0-1341F6B96B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DF230-BFEA-4CF4-9B4A-37080D51F4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DFB6A-3511-458B-AD50-21200EAF9A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C9515-2A1D-44CE-A294-531F57FD77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10B7F-0DE0-4920-83DB-4397EF9D27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31A78-9917-4D83-894E-C68847CA30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5E475-5DB8-4D63-9F36-3458A0537F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443E1-8D29-4083-B554-EE87D0A315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FEDAA-B35B-4864-B8E7-397E5FAF29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59528-3AAC-4043-9819-FF1248C150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CE1D6-6BBE-44A5-97DA-3CA9ED93C6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9BE1B-507E-42FB-8977-05B86F97FE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A9369-D0E6-48DA-9BA3-395492AFEF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7F999-128C-494D-9A1E-D25460A2BF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5FF94-EFF5-4CBD-B0BE-AF18DE9603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FB3AD-C927-49F0-8056-53DF14E317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8E419-FD1E-4610-B00A-017D695FCF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12589-67A1-4909-B4C6-83840F5E8F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DA3E0-A8EF-4557-8363-183B4FA0FD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83D93-8B4C-42E8-B6DC-FDEB4F5824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16B3A-F145-4A54-997A-7344A250A3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1745E-84D4-4C4A-8DFA-3FAB7D17D1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C6A03-9F62-41E6-9B59-074E1963EA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01B52-0C61-4698-A3F1-4F7E1A8011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3051B-4708-4D39-B368-9D1F776391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1390D-1326-46DE-AF26-0DF70883CE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6164C-7DE4-474E-B866-B6536DE29C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3E46C-D6B4-4C13-8D01-71354C4769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DA706-FC67-4473-98DF-B8B59D77C1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71561-F5D6-46C1-B751-3216610EC6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05948-137A-4F07-A812-89C78BA892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F89AB-DEAD-4F81-900B-3061D266A0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2343240" y="3057480"/>
            <a:ext cx="445752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85680" y="1635120"/>
            <a:ext cx="8610480" cy="1085760"/>
          </a:xfrm>
          <a:prstGeom prst="rect">
            <a:avLst/>
          </a:prstGeom>
          <a:ln w="0">
            <a:noFill/>
          </a:ln>
        </p:spPr>
      </p:pic>
      <p:pic>
        <p:nvPicPr>
          <p:cNvPr id="1029" name="图片 2" descr=""/>
          <p:cNvPicPr/>
          <p:nvPr/>
        </p:nvPicPr>
        <p:blipFill>
          <a:blip r:embed="rId3"/>
          <a:stretch/>
        </p:blipFill>
        <p:spPr>
          <a:xfrm>
            <a:off x="241200" y="3392640"/>
            <a:ext cx="7601040" cy="16858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5076720" y="472428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31" name="图片 4102" descr=""/>
          <p:cNvPicPr/>
          <p:nvPr/>
        </p:nvPicPr>
        <p:blipFill>
          <a:blip r:embed="rId5"/>
          <a:stretch/>
        </p:blipFill>
        <p:spPr>
          <a:xfrm>
            <a:off x="841320" y="2205000"/>
            <a:ext cx="1224000" cy="515880"/>
          </a:xfrm>
          <a:prstGeom prst="rect">
            <a:avLst/>
          </a:prstGeom>
          <a:ln w="0">
            <a:noFill/>
          </a:ln>
        </p:spPr>
      </p:pic>
      <p:pic>
        <p:nvPicPr>
          <p:cNvPr id="1032" name="图片 4103" descr=""/>
          <p:cNvPicPr/>
          <p:nvPr/>
        </p:nvPicPr>
        <p:blipFill>
          <a:blip r:embed="rId6"/>
          <a:stretch/>
        </p:blipFill>
        <p:spPr>
          <a:xfrm>
            <a:off x="3030480" y="2205000"/>
            <a:ext cx="1224000" cy="515880"/>
          </a:xfrm>
          <a:prstGeom prst="rect">
            <a:avLst/>
          </a:prstGeom>
          <a:ln w="0">
            <a:noFill/>
          </a:ln>
        </p:spPr>
      </p:pic>
      <p:pic>
        <p:nvPicPr>
          <p:cNvPr id="1033" name="图片 4104" descr=""/>
          <p:cNvPicPr/>
          <p:nvPr/>
        </p:nvPicPr>
        <p:blipFill>
          <a:blip r:embed="rId7"/>
          <a:stretch/>
        </p:blipFill>
        <p:spPr>
          <a:xfrm>
            <a:off x="5248440" y="2190600"/>
            <a:ext cx="1223640" cy="516240"/>
          </a:xfrm>
          <a:prstGeom prst="rect">
            <a:avLst/>
          </a:prstGeom>
          <a:ln w="0">
            <a:noFill/>
          </a:ln>
        </p:spPr>
      </p:pic>
      <p:pic>
        <p:nvPicPr>
          <p:cNvPr id="1034" name="图片 4105" descr=""/>
          <p:cNvPicPr/>
          <p:nvPr/>
        </p:nvPicPr>
        <p:blipFill>
          <a:blip r:embed="rId8"/>
          <a:stretch/>
        </p:blipFill>
        <p:spPr>
          <a:xfrm>
            <a:off x="7437600" y="2190600"/>
            <a:ext cx="1223640" cy="51624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9"/>
          <a:stretch/>
        </p:blipFill>
        <p:spPr>
          <a:xfrm>
            <a:off x="3059280" y="472428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10"/>
          <a:stretch/>
        </p:blipFill>
        <p:spPr>
          <a:xfrm>
            <a:off x="7020000" y="472428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11"/>
          <a:stretch/>
        </p:blipFill>
        <p:spPr>
          <a:xfrm>
            <a:off x="971640" y="4724280"/>
            <a:ext cx="43164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0" name="图片 1" descr=""/>
          <p:cNvPicPr/>
          <p:nvPr/>
        </p:nvPicPr>
        <p:blipFill>
          <a:blip r:embed="rId1"/>
          <a:stretch/>
        </p:blipFill>
        <p:spPr>
          <a:xfrm>
            <a:off x="174600" y="1139760"/>
            <a:ext cx="8096400" cy="1981440"/>
          </a:xfrm>
          <a:prstGeom prst="rect">
            <a:avLst/>
          </a:prstGeom>
          <a:ln w="0">
            <a:noFill/>
          </a:ln>
        </p:spPr>
      </p:pic>
      <p:pic>
        <p:nvPicPr>
          <p:cNvPr id="1041" name="图片 2" descr=""/>
          <p:cNvPicPr/>
          <p:nvPr/>
        </p:nvPicPr>
        <p:blipFill>
          <a:blip r:embed="rId2"/>
          <a:stretch/>
        </p:blipFill>
        <p:spPr>
          <a:xfrm>
            <a:off x="281160" y="3679920"/>
            <a:ext cx="8389800" cy="15904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3"/>
          <a:stretch/>
        </p:blipFill>
        <p:spPr>
          <a:xfrm>
            <a:off x="755640" y="1628640"/>
            <a:ext cx="431640" cy="38448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4"/>
          <a:stretch/>
        </p:blipFill>
        <p:spPr>
          <a:xfrm>
            <a:off x="798480" y="221940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5"/>
          <a:stretch/>
        </p:blipFill>
        <p:spPr>
          <a:xfrm>
            <a:off x="826920" y="2766960"/>
            <a:ext cx="4320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2:25:17Z</dcterms:modified>
  <cp:revision>3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